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836-EA89-44B3-B2A0-A6F52293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C5E-7351-43A6-A81C-0E5738AD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822-06B5-4C18-BD58-0F803349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548-ECEA-4698-8DFA-46DC7190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244-768D-4D4F-BA93-5753B9C2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EC6E-68A8-4E62-B28C-5BF7107C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DA5A-F111-4571-8C98-317F9A90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3408-4784-425F-8705-64A52E11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B110-0E5B-4A93-A5D6-18D6B004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F7F4-7A5D-46A5-8333-AE354E55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EB49-6E48-4869-AA49-114C4B2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A12-9920-48B0-ADBC-A29F9C03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496F-7B59-4518-AFE5-E9787C48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3A12-2B3F-40F7-AC89-AD2BA2C7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7703-1C40-4CD0-BF2C-0761EE1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6C3E-11EB-4D50-8914-85342C4E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17A8-81A9-4A9F-9B5E-F9CDCD34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F4E8-BA2E-4BFF-9280-2B418301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399B-344B-42C1-8AFE-23F5D5EA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8899-2575-42E7-8035-02757F92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38AD-3C9A-47C8-86B6-0D049993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1F53-4E0F-40A7-B7E5-B4811ED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84E-BDF6-46DE-B36F-DAE113CC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0BCB-62FD-4A7B-8E7A-5E4B686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0CFD-959B-4888-8918-0ED8556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7382-7B58-4BDC-A604-9DEEAAF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992D-84DC-465B-A422-5E80766E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0964-7BB4-4720-A024-27A9801A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05E2-FBB4-45D3-B729-69D97768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D49A-85DD-4137-B4ED-CF516882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81161-A84D-428A-A177-71EC9BDE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A3E8-A993-4C90-A3B8-985B96B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7B104-4CA6-4D5E-AB9A-E6C6BC75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67B-5758-43A9-84D7-D3AC8D2E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582B2-7631-49A5-87C7-66913F52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F917-E0ED-412F-9330-5122AFB9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C963-C4D3-4917-B403-C08D444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8CCE-3A65-4B41-86B2-FECB547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463B-AF0A-4691-A990-CF5D0D0D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E5A0-1FBE-4553-8BF3-4892EB2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3ABA-560D-436F-9D9D-537236B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0B23-99C3-4025-AEB0-25777866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C108-CD39-4417-8BBE-36D67C32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930-A2CA-40DF-9F0B-6A586C7A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25A-B66B-4006-9340-39CD3B8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C15-B34D-452B-A7FD-46A8DF93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39B-BA59-4A00-BA1E-FA29053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0FB-FF67-4F10-A727-3C00BCA9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F719-3AF3-4EC9-B6DE-A92C702066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47EF-C205-40D1-B835-FB8711B0BC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5904-C3D9-4990-AC67-48BFF4B94D8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F49-4904-41E6-A3B3-32E261118F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ok Islan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llenges &amp; Ste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2" descr="D:\Wilson\boy drinking water.jpg"/>
          <p:cNvPicPr/>
          <p:nvPr/>
        </p:nvPicPr>
        <p:blipFill>
          <a:blip r:embed="rId1"/>
          <a:stretch/>
        </p:blipFill>
        <p:spPr>
          <a:xfrm>
            <a:off x="304920" y="1676520"/>
            <a:ext cx="4419360" cy="3657600"/>
          </a:xfrm>
          <a:prstGeom prst="rect">
            <a:avLst/>
          </a:prstGeom>
          <a:ln w="0">
            <a:noFill/>
          </a:ln>
        </p:spPr>
      </p:pic>
      <p:pic>
        <p:nvPicPr>
          <p:cNvPr id="197" name="Title 1" descr=""/>
          <p:cNvPicPr/>
          <p:nvPr/>
        </p:nvPicPr>
        <p:blipFill>
          <a:blip r:embed="rId2"/>
          <a:stretch/>
        </p:blipFill>
        <p:spPr>
          <a:xfrm>
            <a:off x="682560" y="1957320"/>
            <a:ext cx="82296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t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 islands – volcanic, raised limestone and ato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have very different water sources and management systems (boreholes, rainwater, surface run-off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rotonga only - supplied by Water Works department (govt); role to play in outer isl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treated but quality satisfactory – buy vs boil (drinking wat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roles in this sector – MoH, Health, MMR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 water – on site septic, private deslud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19980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utdated legislation – Water Ordinance 19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WP – water catchment management (giving ownership of management to the landowners/communitie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WRM/WQ/HYCOS/W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ZAid (CIMRI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U – Water &amp; Sanitation…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view of legislations IWP/ADB) – new water resource act…not liked and not pass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olicies into the NESAF/NSDP – not followed, needs revie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us back on communities – Koutu Nui water catchment reserv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R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295280"/>
            <a:ext cx="822960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838080"/>
          <a:ext cx="8305920" cy="57150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Leakage &amp; wastage of piped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rroded pipes, unsure of responsibilities (gov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ponsible for mains, YOU for your own backyar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Upgrade reticulated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Responsibility of households (awareness/train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Sanitation – septic systems lead to poor lagoon wate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Sanitation Policy – legislative framework – YES! But needs enforcem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Availability/Demand of water (has increased) putting more pressure on current resources/infrastructure – tourism &amp; climate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Study of underground water – availability/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courage rainwater harvesting/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Tariffs = value of water! Improved servic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Lack of appropriate legislative frameworks/sector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TER POLICY A START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ector Finan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380880" y="1447920"/>
          <a:ext cx="8305920" cy="44863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eps forw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ter Supply expenditure part of normal govt. budgetary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Risk of delays due to $$ 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water lev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ority of funds (govt) versus donor/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compete with roads, management/planning not 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dea that water gets outside funding anyway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ter Policy and 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Awareness of plans/activities and funds within the water sector as a whol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commercialization of water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Water is fre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vatization of water utility (or restructure – a separate agenc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stitutional Capaci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762120" y="3504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914400"/>
          <a:ext cx="8534160" cy="5033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eps forw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 and technical resources (both public and private) are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ck of all t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 capacity/Training (govt &amp; priv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y projects -  need to follow on from each other…links…same people involved usually….still need to clarify each others roles….get work don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ter Sector review and policy – SWAP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LITICAL WILL (&amp; civil society)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KE WATER A PRIORITY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wareness/consultation/stable gov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overarching national water policy or legislative framework/ no follow-t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Leads to duplication of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Allocation of money is 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No participation in integration in water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rther step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are already working together in many ways thanks to projects…awareness, water committees, Me being hia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made a start – have water resources management policies in the NESAF and NSDP – just need to follow thru/review…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work to be done…Land Use/Zoning Policies, Infrastructure Plans, consultation on draft regulations (eg. Water resour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n of Finance – more support of their trials of 3 year planning tools!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04617b"/>
                </a:solidFill>
                <a:latin typeface="Calibri"/>
              </a:rPr>
              <a:t>Kia Orana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D:\NEws paper Environment Week\AgriTaro.jpg"/>
          <p:cNvPicPr/>
          <p:nvPr/>
        </p:nvPicPr>
        <p:blipFill>
          <a:blip r:embed="rId1"/>
          <a:stretch/>
        </p:blipFill>
        <p:spPr>
          <a:xfrm>
            <a:off x="457200" y="144792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D:\NEws paper Environment Week\Drinking water.jpg"/>
          <p:cNvPicPr/>
          <p:nvPr/>
        </p:nvPicPr>
        <p:blipFill>
          <a:blip r:embed="rId2"/>
          <a:stretch/>
        </p:blipFill>
        <p:spPr>
          <a:xfrm>
            <a:off x="3429000" y="4114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D:\NEws paper Environment Week\Mangaia water tanks. OMIA.JPG"/>
          <p:cNvPicPr/>
          <p:nvPr/>
        </p:nvPicPr>
        <p:blipFill>
          <a:blip r:embed="rId3"/>
          <a:stretch/>
        </p:blipFill>
        <p:spPr>
          <a:xfrm>
            <a:off x="5335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P3270007"/>
          <p:cNvPicPr/>
          <p:nvPr/>
        </p:nvPicPr>
        <p:blipFill>
          <a:blip r:embed="rId4"/>
          <a:srcRect l="35775" t="49405" r="14401" b="19945"/>
          <a:stretch/>
        </p:blipFill>
        <p:spPr>
          <a:xfrm>
            <a:off x="6248520" y="4343400"/>
            <a:ext cx="2590560" cy="1373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D:\Wilson\Tau @ intake.jpg"/>
          <p:cNvPicPr/>
          <p:nvPr/>
        </p:nvPicPr>
        <p:blipFill>
          <a:blip r:embed="rId5"/>
          <a:stretch/>
        </p:blipFill>
        <p:spPr>
          <a:xfrm>
            <a:off x="3581280" y="1447920"/>
            <a:ext cx="1752840" cy="20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Object 7"/>
          <p:cNvGraphicFramePr/>
          <p:nvPr/>
        </p:nvGraphicFramePr>
        <p:xfrm>
          <a:off x="5791320" y="914400"/>
          <a:ext cx="301932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914400"/>
                    <a:ext cx="3019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23:46:27Z</dcterms:created>
  <dc:creator>Moefaauo</dc:creator>
  <dc:description/>
  <dc:language>en-US</dc:language>
  <cp:lastModifiedBy>Moefaauo</cp:lastModifiedBy>
  <dcterms:modified xsi:type="dcterms:W3CDTF">2010-04-16T01:43:51Z</dcterms:modified>
  <cp:revision>18</cp:revision>
  <dc:subject/>
  <dc:title>Country Presentation</dc:title>
</cp:coreProperties>
</file>